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E2A2101-D284-45B8-895F-0E08A7374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1C74B71-EAC0-4CBB-937C-EA30CE36B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8D1-CB8D-47D4-95E5-35F41528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834-5FC5-4E01-94E0-E4F449B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85D-3FE0-4DD4-9E0C-AC836993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6A3-5DBF-4243-A20D-AF437F8F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B41-87B9-44CB-89D8-5D27117E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DB7-A609-47E7-9CE9-533F3F8F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461-1F90-4EEB-BE7F-61AFE5ED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5A9-EC59-41C3-A0D2-93B4F207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FB9-29B4-469E-9691-C9AC4C6D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85D-78A6-4053-82B5-D044454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AA7-CC70-4B55-AE5E-EF10032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A21-5E94-40B2-AA95-105628A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2b7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spcBef>
                <a:spcPts val="1199"/>
              </a:spcBef>
              <a:buClr>
                <a:srgbClr val="002b7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E30-B2FB-43D8-8FE3-094679EB61F1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2EE3-4C87-440A-8118-9A1112D55194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348000" y="1341360"/>
            <a:ext cx="558000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Objectives of Pil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ilot Project on Maritime Surveil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igo, 4 December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wrence Sciber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itime Surveill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Technical Meeting on VTS/Radar exchange </a:t>
            </a:r>
            <a:br>
              <a:rPr sz="2400"/>
            </a:b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Lisbon, 8 September 2009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ttended by the 3 MSs and Frontex, JRC, and IALA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IALA gave an update on recent VTS data exchange developments and introduced the IVEF Standard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It was agreed that: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at are similarities and differences between VTS / Radar data exchange  -radar message is a subset of VTS and MRS message and the same processing technique should be applied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Technical Meeting on VTS/Radar exchange </a:t>
            </a:r>
            <a:br>
              <a:rPr sz="2400"/>
            </a:b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Lisbon, 8 September 2009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operational needs of MSs should define the concept of VTS/radar messages exchange – must be further discussed with the MSs and Frontex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IALA ‘IVEF standard’ should be taken into equation and should be further examined – more technical details should be made available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Meeting with CFCA</a:t>
            </a:r>
            <a:br>
              <a:rPr sz="2800"/>
            </a:b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Lisbon, 6 October 2009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FCA – sees the importance of AIS /VMS data exchange as being proposed by EMSA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New Fisheries Council Regulation – MSs will be compelled to check and verify AIS data against VMS data – good legal basis for the pilot project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CFCA expressed its wish to have also access to SSN not only to monitor fishing vessels but also ships associated with fishing i.e. cage tugs, reefer vessels, etc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Meeting with Frontex</a:t>
            </a:r>
            <a:br>
              <a:rPr sz="2800"/>
            </a:b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Lisbon, 17 November 2009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Meeting was also attended by CFCA. It was agreed that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rontex is interested to participate in the exchange of Radar images (Scenario 3)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change of Radar images between two areas monitored by radar can assist them in identifying non-cooperative target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rrelation of radar image with SSN AIS data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rontex is interested to participate in VMS/SSN synergi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rrelation of VMS data with AIS data would assist them to identify targets of lesser length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Conclusion for Activity 1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Exchange of VTS/Radar data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234756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tandardization of work shall be established between MSs and EMSA prior to any development;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ALA – ‘IVEF Standard’ should be considered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change of radar images is more complicated due to radar networks being owned by Navi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change of VTS messages – EU is in a privileged position due to EMSA EIS which can play a central nod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change of Radar images – highly dependable on the operational requirements and the  willingness of MSs to exchange radar images. Traditionally, Member States are reluctant to exchange such radar data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Conclusion for Activity 2</a:t>
            </a:r>
            <a:br>
              <a:rPr sz="2400"/>
            </a:b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Exchange of SSN/VMS synergies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Legal grounds provided by the new Fisheries Council Regulation – MSs must check VMS data against AIS data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ccess to LRIT data by FMCs very unlikely to happen for the time being – access rights by MSs; technical compliance with IMO MSC 263 (84); LRIT data is owned by flag Sate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Superimposition of CSN satellite images on VMS / AIS data – for the time being EMSA will be further examining this possibility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ny Questions?</a:t>
            </a:r>
            <a:br>
              <a:rPr sz="2400"/>
            </a:b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Purpos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o provide review of the objectives of the Pilot Projects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Background information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mmission Green paper – EU Integrated Maritime Policy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MSA sought ways how to integrate existing and future applications also at cross- sectoral cooperation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MSs contacted – France, Spain and Italy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Pilot Project on Maritime Surveillance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wo main activities will be undertaken on traffic surveillance: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ctivity 1: Exchange  of  VTS / radar data 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  through SSN; and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ctivity 2: VMS and SSN synergies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What has been agreed</a:t>
            </a:r>
            <a:br>
              <a:rPr sz="2800"/>
            </a:b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Paris,  29 June 2009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First meeting was attended by experts of the Member States and EMSA;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Pilot project on Maritime Surveillance  was defined;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wo main activities were indentified; 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Activities were clarified, and tasks were defined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ctivity 1. Exchange of VTS / radar data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Objective is to: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Provide exchange of VTS /Radar through SSN which would in turn be beneficial to maritime safety, security, pollution, border surveillance, fisheries control etc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asks identified: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Exchange of VTS message through SSN; 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Exchange of radar messages through SSN.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ctivity 1. Exchange of VTS / radar data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It is necessary to establish a  common standard for: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protocols, interfaces, update rates, and message contents keeping in mind the IALA standard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change of radar images is highly dependent on operational requirements and these must be defined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VTS / Radar systems: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taly – ICG in charge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pain – Sasemar operates 3 system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2b7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rance – Navy owns the data but will soon be handed over to the French Maritime Administration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ctivity 2: SSN/VMS synergi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2b71"/>
                </a:solidFill>
                <a:latin typeface="Verdana"/>
              </a:rPr>
              <a:t>The objective is to demonstrate the synergies between VMS and SSN. The following possibilities were identified: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ccess to SSN reports by FMC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SN – interface for communication between FMC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ccess by CFCA to SSN AIS data/ correlated VMS/AIS picture thru’ SSN/STIR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ccess to LRIT reports by FMC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-38088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uperimposition of CSN satellite images on VMS/ AIS data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838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ctivity 2: SSN/VMS synergi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ssues to be considered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ample number of fishing vessels – operating within and outside AIS coverage, testing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Member States’  FMC’s must be able to participate and test the functionalities; FMC’s will have access to SSN and will be able to receive SSN AIS report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oftware developments regarding functionalities will be  done by EMSA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002b7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MSA to send official request to the Authorities concerned owning VMS data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EMSA / JRC meeting</a:t>
            </a:r>
            <a:br>
              <a:rPr sz="2800"/>
            </a:br>
            <a:r>
              <a:rPr b="1" lang="en-US" sz="1800" spc="-1" strike="noStrike">
                <a:solidFill>
                  <a:srgbClr val="0078c7"/>
                </a:solidFill>
                <a:latin typeface="Verdana"/>
              </a:rPr>
              <a:t>Lisbon,  18 August 2009</a:t>
            </a:r>
            <a:endParaRPr b="1" lang="en-US" sz="1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JRC shared their experience in VMS data exchange and radar domain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Both agreed that such functionalities should be explored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On VMS, JRC was involved with DG MARE – detection of fishing vessels not reporting or involved in illegal fishing activiti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JRC developed a software that combines  data coming from AIS, FMC’s, and Satellite radar image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2b7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oftware could be use for the pilot project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12:56:40Z</dcterms:created>
  <dc:creator>sessisa</dc:creator>
  <dc:description/>
  <dc:language>en-US</dc:language>
  <cp:lastModifiedBy>Lawrence SCIBERRAS</cp:lastModifiedBy>
  <cp:lastPrinted>2004-03-26T09:05:49Z</cp:lastPrinted>
  <dcterms:modified xsi:type="dcterms:W3CDTF">2009-12-02T11:13:21Z</dcterms:modified>
  <cp:revision>833</cp:revision>
  <dc:subject/>
  <dc:title>Slide 1</dc:title>
</cp:coreProperties>
</file>